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1AE-B133-48CB-A306-9D24AC42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DF8-6BA0-4170-AC52-4B4D06BF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0A5-2627-44B9-8F8A-04B54AA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A2D-0244-45A8-ABDF-A899EDD8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7BBF-41D0-4556-B9DA-5224F7E5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61A-DB10-41AE-B34C-69851EF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28F-A58C-4737-822A-1249ED6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2ADA-71FF-4676-9769-CD50BFCC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7299-0B95-4B3D-B6CC-F88AE3B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8B1-1CC9-49B5-A571-FDE1054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59C9-BC53-47AE-AAF9-022C2E2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3D8-B0EE-42FD-B180-D514049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8AE-DC5B-4788-9655-4D77D68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C20-75FE-4B55-9FE3-2D554C3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F8D-F034-4C95-9142-80899838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951F-3637-4C1B-B7C2-CDB526FB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7353-5036-46C7-8885-7E69FDDF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AAD-78AF-45DF-B628-A557B379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03C-7C6B-4FAA-A6A1-6BAA8D5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024-CFBB-41DC-AFE0-276D2AE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EF4-7FFD-4EA7-95EB-CBFD8D9C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EE3-33E2-4DEA-A202-E3BCB323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215-D96E-47D4-B19E-A869B1A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B3D-B0E4-4F72-A4A6-6772AD2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9A13-E2CE-4628-B97F-80FD62E16AF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5D62-2FC0-4323-A450-8D144FC886A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ELOKĄ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7000" y="2394000"/>
          <a:ext cx="75168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2394000"/>
                    <a:ext cx="75168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1449360"/>
          <a:ext cx="651816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49360"/>
                    <a:ext cx="6518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2960" y="1233360"/>
          <a:ext cx="673740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233360"/>
                    <a:ext cx="67374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66240" y="4365000"/>
            <a:ext cx="60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daj odcinki z jakich zbudowana jest figura I; III i 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300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cin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 jakich zbudowana jest figura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okami 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spólne punk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dcinków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wierzchołka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59156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azwa wielokąta zależy od liczby jego kątów wewnętr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2673360"/>
          <a:ext cx="79214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73360"/>
                    <a:ext cx="79214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0200" y="123300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. Oznacz wierzchołki, zaznacz kąty i podaj nazwę fig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174" descr=""/>
          <p:cNvPicPr/>
          <p:nvPr/>
        </p:nvPicPr>
        <p:blipFill>
          <a:blip r:embed="rId1"/>
          <a:stretch/>
        </p:blipFill>
        <p:spPr>
          <a:xfrm>
            <a:off x="2411280" y="2241720"/>
            <a:ext cx="44658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123300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. Które z figur przedstawionych na rysunku nie są wielokątami i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82" descr=""/>
          <p:cNvPicPr/>
          <p:nvPr/>
        </p:nvPicPr>
        <p:blipFill>
          <a:blip r:embed="rId1"/>
          <a:stretch/>
        </p:blipFill>
        <p:spPr>
          <a:xfrm>
            <a:off x="1511280" y="2421000"/>
            <a:ext cx="6516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1689120"/>
            <a:ext cx="8492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Wielokąty to figury geometryczne, które maj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kąt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wierzchołk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bok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3:39Z</dcterms:modified>
  <cp:revision>23</cp:revision>
  <dc:subject/>
  <dc:title>Slajd 1</dc:title>
</cp:coreProperties>
</file>